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8F48-431E-45C3-86A7-0B286DF9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980-3FE2-4CCE-9232-D3971CC0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173A5-E03A-4D5C-A4C4-878D36E1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96ABC-0797-4317-9F9D-96DB1C11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ED9D1-C9B5-44EA-8876-703BF535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116DB-9A19-4CAB-8AEF-107E9402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EA83E-0D08-4648-98E1-46033F42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8360A-B9BE-4E17-9713-6438B944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7634C-DAE4-463E-8868-8C78E4DB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9841D-AF83-4C26-8726-AA33DE50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5B818-0C23-4D92-B16B-43215307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F26BD-4C99-4E9C-8921-258BB11E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98DE-CC67-4EF9-BE94-47430EF3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D9560-3B07-4EFE-B313-F784BD70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CF7F3-BE6B-4395-988B-B01401B7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5AF71-4920-4DF0-B341-91F2EA63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926D0-338F-4E6E-A289-2A6369F4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4BA17-D7C5-45A6-82E1-3D06CD69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829F7-6BD3-4B08-98EF-C7274A9E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C5B99-0ABB-4D64-9652-2731ACB5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5548F-E33B-4DC4-9E1D-337B2F1D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AEC1F-527E-4C75-9D7D-0457EB21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A53A3-10C3-4F1B-AD27-467790AF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941A-51E6-46AF-B0A5-1DBE2716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298BB-C5C9-48A7-8A98-99928919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9E2FB-680C-452C-9741-FAA06B7F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0CBCF-229B-4DDC-A2A1-67BACBAD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60DE8-B1AB-4112-BCF7-5F51ED41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13357-9856-4694-807C-BDF467A3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78AB3-B7D9-4A4C-BD81-50F99810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36CE3-299C-4758-98B2-565353D5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6CE34-2578-44BA-9EB8-8C8DAC9B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898FA-8A37-419A-90A4-FDDD0F77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03263-716E-4FC8-ADEB-BF258F6A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2F74-A177-4742-BBF1-514D10AF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65210-6FF6-4CA8-A52B-E8F1B379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AE364-92B1-4743-A64C-BA003C45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2B651-46C6-4DD6-A8F3-AFC35238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39938-30C0-486E-B387-B3F303E3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0AE51-FEB6-4B64-8179-04EF740A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05274-34D0-4C2C-B632-1300E632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BCC28-5C71-4C76-875F-21F42889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397D7-5A98-4747-A138-D6D06165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A9EA2-3591-4F83-B5BA-2F8F3AC4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60BE5-94B8-4A16-B762-D33C648E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DB10-459F-4CAF-B1F2-BD1F72ED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2AC9E-D163-45CD-B4AD-47FA5B61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2B66F-9F56-43D9-9A84-514E9679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C605A-DC19-4B9D-9853-3C1CA010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75109-748F-4B14-B383-C307B9DD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0F9A4-439C-484E-B13A-033D039C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C466C-E838-4110-9846-55325B9D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2D9FA3-7A45-47B6-A12A-4EABBC1D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0A57D-B595-49BF-BA73-75905745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4D6B6-A682-4B6E-9F75-3BE5A82F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06069-F44B-4871-B5C9-768DA35E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1386-E1E3-4A3D-A53C-9A12CEFE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0E57C-6E42-4F8D-ADBB-BC03F72D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5EA6F2-71EA-4DDF-9D7E-0E664F47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96BDAF-16FA-49EF-833D-367F772A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ABA5F-5538-4241-9DC2-F747CAD6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1E6E0-8EA8-4B4A-B185-9E495370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99D3A-FFB0-458A-95C7-FDF0F074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32D804-3E4C-4648-B9A6-42B09411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42A78F-B798-40C3-9E1F-C4C9960B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816AA8-FFE5-4401-8EDB-DE1EFE05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2DFA36-CBC9-4AAB-80D0-8054379F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A603-71C2-4835-9E16-1B066FA6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37C724-EAB1-461B-971A-225D25F9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3BE0A2-0FAA-464A-A5EE-7A0AFCC3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415D7C-60C9-4475-9AB1-12B11CD1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92769B-AD9D-4133-A56E-2ED2891A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97974C-485D-4677-9004-B3150809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4B34F-1A76-40E4-BBBC-795F9836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A80096-52E1-4AD7-BF22-C0D5FD43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4925E6-4834-4F05-980A-2735EB8A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CCD43-420B-4EDE-8BBE-23693269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3DBC89-09AA-40D1-AA9B-9A248C6A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3C79-281E-4447-B9F7-238C009E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DBF681-7D42-4582-AEAA-329150AE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1B7810-84A7-4E33-A120-5FEB641C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6DDEED-D6F4-4D17-ADC9-C302BF16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E0D8D0-60D1-40DD-B343-F77C07C8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31CB42-B19D-48D9-848F-C624BBD7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06B279-29B6-441C-A0B5-F01F7114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656997-B604-402C-9C94-75837546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F99FE4-F023-4B1D-B01D-487E5291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39832E-90F9-4C09-8E5D-5DCE6FC2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4CB3DE-BE9A-4288-B697-F388363A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86E5-B703-4D6B-B1BB-4322913E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6AC2D1-8C18-4256-9F34-EAA27903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423228-963C-4130-A6AA-6DBFEFEC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8A949D-F6A0-40C7-A72F-DD0AACB6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4E5923-FA0D-48B1-BE9E-FBE8BF62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E5F59A-207F-4884-AE66-3ED76281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AFE436-33FD-4FBD-92C2-6C896A84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4F392F-031D-47CA-9419-8D990503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962125-3640-4C31-96FD-3C4D8141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BAD6EC-639E-40DE-94CC-E765C072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254EE0-A5CB-41E0-8267-C1D945EF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79B0-65BC-44D1-B252-97462B37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8725A7-8A5C-497F-BBF3-274F90E1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D82D01-E701-4C0A-9FC1-D77A4C86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D828CE-2EAE-4675-848B-BB369DB4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35F2A1-2722-4F48-AA49-41DA22BD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9B0329-94D9-492E-98C8-6157ADA1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6E5FC0-4220-4E0B-BAC5-53A9E54E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04672F-C72B-46DC-BF70-14FAAB55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A2E007-D9CE-4775-85AD-1B1C223A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5AA2D7-D4BD-40A9-A28D-60808242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1276C4-B068-4CAB-B765-70E911E6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6CC-C2C7-49AF-A975-86DFDB0D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EC39-633C-4960-A8EF-ABDE52AE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610154-B77D-4B17-8F9B-816EEA1F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AF4FF5-BDA9-4135-82A2-6116A3F9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934FE1-3F68-47BC-B4E6-B1807C0D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2CFE53-D62C-4C21-B27E-165CA4F7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CB08F8-23B1-47A1-98FC-D023B8C8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A35689-7DDD-4598-88F1-748AC581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9138F3-799D-4F9B-AADC-BBD2A1FA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1D6085-0B63-4FDA-A32E-1C9A7024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DF3F62-3FC7-462D-A5EA-CCAEA629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4590AE-F876-4FBE-B73B-32223FBB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8647-D98F-46F7-8504-7CF92D7C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05E83E-085F-496C-AF7A-5F5F2828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ED245D-7BBB-4152-AD80-BECC174B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3E56F5-A657-4C3E-AEEC-5A292F5A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3F05FE-6CFA-4524-86D1-565861FF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92540B-92F8-49C8-A21A-C0702BC3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C6184B-3C5D-4983-9FB4-86729213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9B6B41-F468-4A33-B5D5-EC131F53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42F264-6B7B-43C6-8793-0103BB09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E1B0FE-F488-45A2-9785-0D1A3295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F3563F-0925-46B4-90C2-B3F27B21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73E3-2A2C-4584-9429-8D9CBC4A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CE683A-565C-4955-9CA6-B035C0FF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9C20F9-649C-40FA-BD19-D4328C26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917BDD-56C4-42F0-B632-A57FB39C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941B99-9D54-4375-9181-444B3106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A204A3-FAD1-4803-BD98-F02EB078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D477AD-A57A-4C89-8F23-F5C01261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7B580D-4310-4AE2-BB26-42C2942B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27385C-1FFF-4C0B-8FBB-6B752602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D92D97-D5B8-4507-86D7-58080043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1C5D29-D463-4C61-B12F-10DFB907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33E0-773E-446A-B2C8-6561DF09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763025-42AD-4CAD-BCD3-2BDE7F6B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C35A22-016A-4902-AEC2-DC57AE5A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737413-357F-4CBD-9D4B-27F91FDF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6E5CCD-C1EA-4774-8AB0-AC7936B6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BB59B2-A307-4E30-B80E-FD4984F6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B235C6-E4F5-4E8E-ADE5-88C02A8C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7290E9-56F3-4730-877F-B739FE30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452ABE-02BF-428B-B96A-4833929B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D56199-599A-48FC-9289-28994A6C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1246DF-72F3-475D-B96A-EC6B50D2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FD6B-324B-47C9-A3DE-2A06829B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CBA1EC-9AB3-4ADC-B73A-BA4A6221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B3BE6D-8F8F-4948-9719-DE6A7493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062E1D-FF46-46AF-A224-AC504600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C97824-705E-48E2-9E45-98A946CA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EF975B-1A80-4C0B-AA78-D162E5CA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661F02-EBAD-4179-B479-E5AB4B12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CBC36C-FBC9-4F6B-B5AE-9628E0F4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0498BB-CBC9-4B0A-9066-62FA7B72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3F072F-1056-479E-B201-5655A23D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9882A5-B697-4CAA-A782-CCB8CEF7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F1A1D-2B3E-4A20-BE6C-685D3465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CCA4F6-98DF-4778-B6AC-BA6A28B4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92896C-C55B-44A4-B0D2-FA4E444E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E1A9C4-6BAB-4CA0-A0D0-B5BE7229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80D3E-A8AE-4A0D-AD09-0B095D46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9B248-1C56-4230-A8E4-D37A1583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E4BBB-6D35-44E0-A1F4-8064F362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095E8-960D-40D0-B650-B2A017E6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E33B-73B3-4348-882C-3B00BAC1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CC81B-9FF1-4600-938E-2FCAF4BE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52593-F979-4BDF-AAED-34B13CE7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F6E90-6EF4-43FD-96E2-1E01EFEE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B36A9-1E28-460B-A04C-83163322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8E3A7-EF5F-4A44-84B1-8F0CB760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CB4C3-164F-4A2E-B083-33653827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CA80F-F9D0-430A-9950-999EEE5A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3240B-5A29-417D-A519-24A6D31D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1AD39-A8BC-46F7-B812-48855A0B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30130-64EE-461A-B024-4383A246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663B-E468-413E-96E5-088160FD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2D536-7A83-4776-83D0-38B77D4F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F57BF-ACA5-4130-AB47-6C6F3A43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9747F-E6C5-4C25-8089-6F888563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C0EBA-986A-4AD0-AD12-6FBA9565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A51A6-EB54-4998-8389-FD9C28B3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9B559-0AD4-44D3-BBDE-63B63460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72951-B0F6-49B9-9E1F-DDF6AC57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F1D55-4283-465F-B6AC-5ED7189D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23F5A-9DFD-444B-824E-0A85BAD8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B3B2E-CB1B-47F1-8B9E-626F37EB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34CC-9D1B-4EE7-A90D-82D11ECD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387E4-35A5-42C3-8679-529D5E53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ACC35-29D3-48CC-8D08-43D308DA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5CC96-92B8-41A9-BDC1-E1AF0D01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A4E3C-8584-4BF5-B19F-57B8B8B0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B6F4C-575D-4DD3-BC0B-2C192D52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45C8E-D95D-4CAE-A9E0-F6F0F641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F586D-E4FE-4BFD-ACFA-17220601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D0104-CBD2-48A4-B8F9-012FCAD8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60B7E-163F-496E-B09B-47E2E805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DB6E8-6A1A-4771-BDE1-36F4CF51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B70-0C1A-4DC1-B80E-BFCEBDF7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CC79C-E9B4-4644-B899-2A86F6AB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44A9E-2BD5-45C9-BC3C-B5EEAF7C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D0312-2547-4FBE-AD2C-2992220A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2904B-AE7A-4511-8F95-3B837881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48CF8-C20E-463A-8682-D72561C3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C141A-44F1-4D33-BE47-DB9213D8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C143A-8883-4851-8E08-14BE712B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76F8D-1F95-4AC3-9B43-CC81912A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D7099-C996-476B-8E3D-00C34069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4639D-AC0E-49DA-A80E-DC68C894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951-559D-4474-894B-3948B3E0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97FBB-42B1-4BDF-A2CC-1E85BE40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910BC-2BA8-44E4-A7E9-5FC78ECF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C3BCD-FA9D-4B8B-A4E5-60DF4792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3A302-071D-4BFC-8F2B-4448BDC0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D8CBF-A126-4BFC-9FB2-0C7FFD86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68584-04E1-483E-8BF4-FBCADE38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CF16E-DA29-40E4-BD72-BA0275FC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68BBC-6529-47DD-A7CC-62774E0D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A5B87-861E-4CAD-A094-29EB06C6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0B588-5096-422B-9347-73DD39AC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123-E812-4CD5-A6B2-1D807BC8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F7D74-CC72-435A-9179-5A4501FF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E29F7-F4C5-4C20-BCE5-53C63128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8C5D1-CC58-495E-B89A-FF58D78C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D8457-93C7-4982-9C77-E4ECD32B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1AEDE-4F98-4A58-BE87-1E2E1F7E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DDCEA-7838-497F-9934-37165BF0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03BFE-1345-4C76-8FCF-88312E95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00368-B2E2-460A-A304-F0EBAE76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952EF-CD44-412D-BCBD-F7D8F99B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40CEC-4738-438E-BE5A-2EAC1043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2DCB-2941-40EE-9C08-8F9D4DFA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72092-0247-4213-9FF1-09557D42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C6ABD-740B-4EEC-B1A1-754F5AC0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0D458-DCDF-4D8B-A5D8-E7526C05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5C842-A365-4C85-ACEE-3167398A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7FC50-B72C-44E1-8A92-F4A9D847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E9FCF-BD34-4A92-B4C0-5CD3F247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43CDE-4AC1-40BB-9EFE-9EA3DAE0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B0622-7CAE-4EAC-BC06-895AA56F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089E5-305D-4203-9DC8-13796C8B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13AF9-2178-4D33-8003-11DEA069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5C2E-9811-4AC8-A645-ECCD15C63C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A5F9-4297-4D5B-88A7-9158EC1171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96DF-AF3F-4DE9-901B-CCF8F72B33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EEBF-786B-4F34-B9E8-48F0AD4F0B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0A38-754F-4219-B794-DE1BC55947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53F5-66B1-47AB-871B-AB0A2188B3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4D11-A7FA-419D-A4DE-C30E8BDECE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99F7-3E6C-418E-AEF5-E69091A7D7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3646-485D-47B6-8776-6162E94998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3908-EFFF-47D5-BF4A-0346D1BA57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E1C3-67AA-423C-B436-8DD6868C31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475D-CCCD-4005-BDF2-AD4EAF0B9E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D0F3-68E6-4AF0-8066-3A51767FA8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F9D1-47D7-4A6A-AD98-F7B491A76A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A0ED-F28C-4BDF-83D0-58BD67907A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9FAC-FBB7-47E8-8B25-7A309B61FC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6F43-46A4-413A-967C-873FA5562D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9845-7897-44B7-B56B-19C1E9BA9A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D962-6D2C-4665-B598-81208FECC8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B6D5-E40A-44FD-82C5-E27CF76E06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CA01-0C11-4F87-BAD5-2D7E1DF126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C4C7-9E3C-49AA-B9CB-53FD250A29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D2B5-100A-4307-BBB5-BE0DFA1681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DC8A-351C-44F7-B8A1-0AD994C090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7330-0F2D-46BC-8D32-7EBEBC27A5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E9D7-1B5B-425B-827E-A0D6CB3176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5585-8A5F-4341-96EE-E1B3C25CD6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BF95-0984-42DD-9247-6D95A2C3C5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B23C-935E-47D5-A0DD-4CF8767687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9506-BA79-41C2-A6EE-9999C848A7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D74C-5786-4E6F-8F8E-5838DFA2CF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12F7-A8E2-4670-9809-E7C042EFB8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403E-0CC0-4B99-9919-F00EB9EADC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9E82-5563-4EED-9C72-4AD74A55FB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47AA-A5E1-430D-8184-29F7CEC07B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0F52-D1CC-4BB4-AEBD-1F1C9EE212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9ADF-459F-4060-A58C-D4220A4BEA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B950-FF85-449F-8AF8-F13B5D8B01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2F7A-04B8-4F58-B0D9-52E1153FA4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9691-3AF6-42EA-95A7-1DAFA4241B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9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85183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85840" y="1090440"/>
            <a:ext cx="8572320" cy="46771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611280" y="2952720"/>
            <a:ext cx="3024000" cy="4287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3635280" y="2938320"/>
            <a:ext cx="3024360" cy="4287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179280" y="3514680"/>
            <a:ext cx="2089080" cy="4287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2340000" y="3500280"/>
            <a:ext cx="3527280" cy="4287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611280" y="4106880"/>
            <a:ext cx="576000" cy="428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7"/>
          <a:stretch/>
        </p:blipFill>
        <p:spPr>
          <a:xfrm>
            <a:off x="1201680" y="4091040"/>
            <a:ext cx="2448000" cy="4284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8"/>
          <a:stretch/>
        </p:blipFill>
        <p:spPr>
          <a:xfrm>
            <a:off x="3708360" y="4076640"/>
            <a:ext cx="2087640" cy="428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9"/>
          <a:stretch/>
        </p:blipFill>
        <p:spPr>
          <a:xfrm>
            <a:off x="582480" y="4653000"/>
            <a:ext cx="2232000" cy="428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10"/>
          <a:stretch/>
        </p:blipFill>
        <p:spPr>
          <a:xfrm>
            <a:off x="2771640" y="4667400"/>
            <a:ext cx="2952720" cy="4284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11"/>
          <a:stretch/>
        </p:blipFill>
        <p:spPr>
          <a:xfrm>
            <a:off x="250920" y="5243400"/>
            <a:ext cx="2693880" cy="428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12"/>
          <a:stretch/>
        </p:blipFill>
        <p:spPr>
          <a:xfrm>
            <a:off x="2973240" y="5229360"/>
            <a:ext cx="347040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59410" descr=""/>
          <p:cNvPicPr/>
          <p:nvPr/>
        </p:nvPicPr>
        <p:blipFill>
          <a:blip r:embed="rId1"/>
          <a:stretch/>
        </p:blipFill>
        <p:spPr>
          <a:xfrm>
            <a:off x="228600" y="706320"/>
            <a:ext cx="8686800" cy="59626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684360" y="2406600"/>
            <a:ext cx="3816360" cy="428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4572000" y="2421000"/>
            <a:ext cx="1944720" cy="4284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136440" y="2997360"/>
            <a:ext cx="1944720" cy="428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2138400" y="2997360"/>
            <a:ext cx="2289240" cy="4284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4486320" y="2938320"/>
            <a:ext cx="1944720" cy="428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7"/>
          <a:stretch/>
        </p:blipFill>
        <p:spPr>
          <a:xfrm>
            <a:off x="165240" y="3573360"/>
            <a:ext cx="1944720" cy="428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8"/>
          <a:stretch/>
        </p:blipFill>
        <p:spPr>
          <a:xfrm>
            <a:off x="2124000" y="3544920"/>
            <a:ext cx="3168720" cy="4287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9"/>
          <a:stretch/>
        </p:blipFill>
        <p:spPr>
          <a:xfrm>
            <a:off x="5292720" y="3514680"/>
            <a:ext cx="1224000" cy="428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10"/>
          <a:stretch/>
        </p:blipFill>
        <p:spPr>
          <a:xfrm>
            <a:off x="179280" y="4105440"/>
            <a:ext cx="1224000" cy="4284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1"/>
          <a:stretch/>
        </p:blipFill>
        <p:spPr>
          <a:xfrm>
            <a:off x="1476360" y="4105440"/>
            <a:ext cx="1943280" cy="4284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12"/>
          <a:stretch/>
        </p:blipFill>
        <p:spPr>
          <a:xfrm>
            <a:off x="3419640" y="4105440"/>
            <a:ext cx="2665080" cy="4284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13"/>
          <a:stretch/>
        </p:blipFill>
        <p:spPr>
          <a:xfrm>
            <a:off x="684360" y="4667400"/>
            <a:ext cx="4248000" cy="4284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14"/>
          <a:stretch/>
        </p:blipFill>
        <p:spPr>
          <a:xfrm>
            <a:off x="4932360" y="4710240"/>
            <a:ext cx="1655640" cy="4284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15"/>
          <a:stretch/>
        </p:blipFill>
        <p:spPr>
          <a:xfrm>
            <a:off x="539640" y="5272200"/>
            <a:ext cx="3961080" cy="4284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16"/>
          <a:stretch/>
        </p:blipFill>
        <p:spPr>
          <a:xfrm>
            <a:off x="4572000" y="5243400"/>
            <a:ext cx="3313080" cy="428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7"/>
          <a:stretch/>
        </p:blipFill>
        <p:spPr>
          <a:xfrm>
            <a:off x="7942320" y="5243400"/>
            <a:ext cx="950760" cy="428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8"/>
          <a:stretch/>
        </p:blipFill>
        <p:spPr>
          <a:xfrm>
            <a:off x="684360" y="6021360"/>
            <a:ext cx="1093680" cy="4287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9"/>
          <a:stretch/>
        </p:blipFill>
        <p:spPr>
          <a:xfrm>
            <a:off x="1835280" y="6035760"/>
            <a:ext cx="1584360" cy="4284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0"/>
          <a:stretch/>
        </p:blipFill>
        <p:spPr>
          <a:xfrm>
            <a:off x="3433680" y="5921280"/>
            <a:ext cx="531504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58374" descr=""/>
          <p:cNvPicPr/>
          <p:nvPr/>
        </p:nvPicPr>
        <p:blipFill>
          <a:blip r:embed="rId1"/>
          <a:stretch/>
        </p:blipFill>
        <p:spPr>
          <a:xfrm>
            <a:off x="214200" y="171360"/>
            <a:ext cx="8715600" cy="6515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539640" y="3602160"/>
            <a:ext cx="3961080" cy="42840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58376" descr=""/>
          <p:cNvPicPr/>
          <p:nvPr/>
        </p:nvPicPr>
        <p:blipFill>
          <a:blip r:embed="rId3"/>
          <a:stretch/>
        </p:blipFill>
        <p:spPr>
          <a:xfrm>
            <a:off x="6515280" y="157320"/>
            <a:ext cx="2295360" cy="22572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4"/>
          <a:stretch/>
        </p:blipFill>
        <p:spPr>
          <a:xfrm>
            <a:off x="4572000" y="3573360"/>
            <a:ext cx="2160720" cy="4287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5"/>
          <a:stretch/>
        </p:blipFill>
        <p:spPr>
          <a:xfrm>
            <a:off x="6804000" y="3573360"/>
            <a:ext cx="2160720" cy="4287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6"/>
          <a:stretch/>
        </p:blipFill>
        <p:spPr>
          <a:xfrm>
            <a:off x="179280" y="4149720"/>
            <a:ext cx="1800360" cy="4287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7"/>
          <a:stretch/>
        </p:blipFill>
        <p:spPr>
          <a:xfrm>
            <a:off x="1994040" y="4149720"/>
            <a:ext cx="4738680" cy="4287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8"/>
          <a:stretch/>
        </p:blipFill>
        <p:spPr>
          <a:xfrm>
            <a:off x="6732720" y="4149720"/>
            <a:ext cx="2160360" cy="4287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9"/>
          <a:stretch/>
        </p:blipFill>
        <p:spPr>
          <a:xfrm>
            <a:off x="539640" y="4724280"/>
            <a:ext cx="2160720" cy="4287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10"/>
          <a:stretch/>
        </p:blipFill>
        <p:spPr>
          <a:xfrm>
            <a:off x="2700360" y="4724280"/>
            <a:ext cx="2879640" cy="4287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11"/>
          <a:stretch/>
        </p:blipFill>
        <p:spPr>
          <a:xfrm>
            <a:off x="5580000" y="4724280"/>
            <a:ext cx="3240000" cy="4287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12"/>
          <a:stretch/>
        </p:blipFill>
        <p:spPr>
          <a:xfrm>
            <a:off x="250920" y="5315040"/>
            <a:ext cx="3240000" cy="4284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13"/>
          <a:stretch/>
        </p:blipFill>
        <p:spPr>
          <a:xfrm>
            <a:off x="3419640" y="5300640"/>
            <a:ext cx="5545080" cy="4287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14"/>
          <a:stretch/>
        </p:blipFill>
        <p:spPr>
          <a:xfrm>
            <a:off x="468360" y="5950080"/>
            <a:ext cx="3527280" cy="7189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15"/>
          <a:stretch/>
        </p:blipFill>
        <p:spPr>
          <a:xfrm>
            <a:off x="3995640" y="6049800"/>
            <a:ext cx="43214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57352" descr=""/>
          <p:cNvPicPr/>
          <p:nvPr/>
        </p:nvPicPr>
        <p:blipFill>
          <a:blip r:embed="rId1"/>
          <a:stretch/>
        </p:blipFill>
        <p:spPr>
          <a:xfrm>
            <a:off x="495360" y="1552680"/>
            <a:ext cx="8153280" cy="37526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2"/>
          <a:stretch/>
        </p:blipFill>
        <p:spPr>
          <a:xfrm>
            <a:off x="409680" y="1859040"/>
            <a:ext cx="2520720" cy="4284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3"/>
          <a:stretch/>
        </p:blipFill>
        <p:spPr>
          <a:xfrm>
            <a:off x="2987640" y="1744560"/>
            <a:ext cx="5761080" cy="7477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4"/>
          <a:stretch/>
        </p:blipFill>
        <p:spPr>
          <a:xfrm>
            <a:off x="324000" y="2637000"/>
            <a:ext cx="5400360" cy="4284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5"/>
          <a:stretch/>
        </p:blipFill>
        <p:spPr>
          <a:xfrm>
            <a:off x="5796000" y="2637000"/>
            <a:ext cx="2879640" cy="4284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6"/>
          <a:stretch/>
        </p:blipFill>
        <p:spPr>
          <a:xfrm>
            <a:off x="395280" y="3213000"/>
            <a:ext cx="1728720" cy="4287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7"/>
          <a:stretch/>
        </p:blipFill>
        <p:spPr>
          <a:xfrm>
            <a:off x="2124000" y="3213000"/>
            <a:ext cx="3168720" cy="4287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8"/>
          <a:stretch/>
        </p:blipFill>
        <p:spPr>
          <a:xfrm>
            <a:off x="5292720" y="3213000"/>
            <a:ext cx="3600360" cy="4287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9"/>
          <a:stretch/>
        </p:blipFill>
        <p:spPr>
          <a:xfrm>
            <a:off x="395280" y="3773520"/>
            <a:ext cx="3600360" cy="4287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10"/>
          <a:stretch/>
        </p:blipFill>
        <p:spPr>
          <a:xfrm>
            <a:off x="295200" y="4581360"/>
            <a:ext cx="2232000" cy="4287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11"/>
          <a:stretch/>
        </p:blipFill>
        <p:spPr>
          <a:xfrm>
            <a:off x="2556000" y="4437000"/>
            <a:ext cx="5832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图片 56324" descr=""/>
          <p:cNvPicPr/>
          <p:nvPr/>
        </p:nvPicPr>
        <p:blipFill>
          <a:blip r:embed="rId1"/>
          <a:stretch/>
        </p:blipFill>
        <p:spPr>
          <a:xfrm>
            <a:off x="195120" y="90360"/>
            <a:ext cx="8753760" cy="66772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2"/>
          <a:stretch/>
        </p:blipFill>
        <p:spPr>
          <a:xfrm>
            <a:off x="539640" y="1946160"/>
            <a:ext cx="3745080" cy="428760"/>
          </a:xfrm>
          <a:prstGeom prst="rect">
            <a:avLst/>
          </a:prstGeom>
          <a:ln w="0">
            <a:noFill/>
          </a:ln>
        </p:spPr>
      </p:pic>
      <p:pic>
        <p:nvPicPr>
          <p:cNvPr id="1083" name="图片 56326" descr=""/>
          <p:cNvPicPr/>
          <p:nvPr/>
        </p:nvPicPr>
        <p:blipFill>
          <a:blip r:embed="rId3"/>
          <a:stretch/>
        </p:blipFill>
        <p:spPr>
          <a:xfrm>
            <a:off x="6386400" y="1914480"/>
            <a:ext cx="2448000" cy="234324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4"/>
          <a:stretch/>
        </p:blipFill>
        <p:spPr>
          <a:xfrm>
            <a:off x="539640" y="2565360"/>
            <a:ext cx="4392720" cy="4287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5"/>
          <a:stretch/>
        </p:blipFill>
        <p:spPr>
          <a:xfrm>
            <a:off x="539640" y="3213000"/>
            <a:ext cx="4392720" cy="4287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6"/>
          <a:stretch/>
        </p:blipFill>
        <p:spPr>
          <a:xfrm>
            <a:off x="539640" y="3860640"/>
            <a:ext cx="4392720" cy="16560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7"/>
          <a:stretch/>
        </p:blipFill>
        <p:spPr>
          <a:xfrm>
            <a:off x="468360" y="5734080"/>
            <a:ext cx="4390920" cy="4287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8"/>
          <a:stretch/>
        </p:blipFill>
        <p:spPr>
          <a:xfrm>
            <a:off x="6084720" y="5373720"/>
            <a:ext cx="1727280" cy="42876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9"/>
          <a:stretch/>
        </p:blipFill>
        <p:spPr>
          <a:xfrm>
            <a:off x="4859280" y="5703840"/>
            <a:ext cx="2305080" cy="42876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10"/>
          <a:stretch/>
        </p:blipFill>
        <p:spPr>
          <a:xfrm>
            <a:off x="539640" y="6337440"/>
            <a:ext cx="4103640" cy="42840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11"/>
          <a:stretch/>
        </p:blipFill>
        <p:spPr>
          <a:xfrm>
            <a:off x="4643280" y="6337440"/>
            <a:ext cx="26654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图片 55300" descr=""/>
          <p:cNvPicPr/>
          <p:nvPr/>
        </p:nvPicPr>
        <p:blipFill>
          <a:blip r:embed="rId1"/>
          <a:stretch/>
        </p:blipFill>
        <p:spPr>
          <a:xfrm>
            <a:off x="237960" y="871560"/>
            <a:ext cx="8668080" cy="55818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2"/>
          <a:stretch/>
        </p:blipFill>
        <p:spPr>
          <a:xfrm>
            <a:off x="611280" y="3414600"/>
            <a:ext cx="5473440" cy="428760"/>
          </a:xfrm>
          <a:prstGeom prst="rect">
            <a:avLst/>
          </a:prstGeom>
          <a:ln w="0">
            <a:noFill/>
          </a:ln>
        </p:spPr>
      </p:pic>
      <p:pic>
        <p:nvPicPr>
          <p:cNvPr id="1094" name="图片 55302" descr=""/>
          <p:cNvPicPr/>
          <p:nvPr/>
        </p:nvPicPr>
        <p:blipFill>
          <a:blip r:embed="rId3"/>
          <a:stretch/>
        </p:blipFill>
        <p:spPr>
          <a:xfrm>
            <a:off x="6264360" y="3427560"/>
            <a:ext cx="2628720" cy="199044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4"/>
          <a:stretch/>
        </p:blipFill>
        <p:spPr>
          <a:xfrm>
            <a:off x="582480" y="4076640"/>
            <a:ext cx="3456000" cy="42876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5"/>
          <a:stretch/>
        </p:blipFill>
        <p:spPr>
          <a:xfrm>
            <a:off x="4067280" y="4033800"/>
            <a:ext cx="2017440" cy="4287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6"/>
          <a:stretch/>
        </p:blipFill>
        <p:spPr>
          <a:xfrm>
            <a:off x="395280" y="4724280"/>
            <a:ext cx="5689440" cy="42876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7"/>
          <a:stretch/>
        </p:blipFill>
        <p:spPr>
          <a:xfrm>
            <a:off x="468360" y="5300640"/>
            <a:ext cx="5689440" cy="42876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8"/>
          <a:stretch/>
        </p:blipFill>
        <p:spPr>
          <a:xfrm>
            <a:off x="324000" y="5950080"/>
            <a:ext cx="5256000" cy="42840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9"/>
          <a:stretch/>
        </p:blipFill>
        <p:spPr>
          <a:xfrm>
            <a:off x="5651640" y="5950080"/>
            <a:ext cx="57600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2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1" name="图片 54276" descr=""/>
          <p:cNvPicPr/>
          <p:nvPr/>
        </p:nvPicPr>
        <p:blipFill>
          <a:blip r:embed="rId1"/>
          <a:stretch/>
        </p:blipFill>
        <p:spPr>
          <a:xfrm>
            <a:off x="409680" y="1171440"/>
            <a:ext cx="8324640" cy="451512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6983280" cy="172908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3"/>
          <a:stretch/>
        </p:blipFill>
        <p:spPr>
          <a:xfrm>
            <a:off x="539640" y="3170160"/>
            <a:ext cx="4248360" cy="42876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4"/>
          <a:stretch/>
        </p:blipFill>
        <p:spPr>
          <a:xfrm>
            <a:off x="4802040" y="3198960"/>
            <a:ext cx="3564000" cy="42840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5"/>
          <a:stretch/>
        </p:blipFill>
        <p:spPr>
          <a:xfrm>
            <a:off x="395280" y="3832200"/>
            <a:ext cx="6408720" cy="42876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6"/>
          <a:stretch/>
        </p:blipFill>
        <p:spPr>
          <a:xfrm>
            <a:off x="6804000" y="3832200"/>
            <a:ext cx="2089080" cy="42876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7"/>
          <a:stretch/>
        </p:blipFill>
        <p:spPr>
          <a:xfrm>
            <a:off x="468360" y="4451400"/>
            <a:ext cx="1511280" cy="42840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8"/>
          <a:stretch/>
        </p:blipFill>
        <p:spPr>
          <a:xfrm>
            <a:off x="2036880" y="4451400"/>
            <a:ext cx="4622760" cy="42840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9"/>
          <a:stretch/>
        </p:blipFill>
        <p:spPr>
          <a:xfrm>
            <a:off x="6718320" y="4437000"/>
            <a:ext cx="2089080" cy="4287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10"/>
          <a:stretch/>
        </p:blipFill>
        <p:spPr>
          <a:xfrm>
            <a:off x="468360" y="5084640"/>
            <a:ext cx="2376360" cy="4287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11"/>
          <a:stretch/>
        </p:blipFill>
        <p:spPr>
          <a:xfrm>
            <a:off x="2843280" y="5084640"/>
            <a:ext cx="20890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4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9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4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2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7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9:23:07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